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315200" cy="96012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360" y="578232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73464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5140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53440" y="277308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36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5140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753440" y="5782320"/>
            <a:ext cx="2001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49360" y="853560"/>
            <a:ext cx="6216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34640" y="578232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936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34640" y="2773080"/>
            <a:ext cx="3033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9360" y="5782320"/>
            <a:ext cx="6216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3560"/>
            <a:ext cx="621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73080"/>
            <a:ext cx="6216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08600" y="8959680"/>
            <a:ext cx="23176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JA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28600" y="487440"/>
            <a:ext cx="6858000" cy="8537400"/>
            <a:chOff x="228600" y="487440"/>
            <a:chExt cx="6858000" cy="8537400"/>
          </a:xfrm>
        </p:grpSpPr>
        <p:grpSp>
          <p:nvGrpSpPr>
            <p:cNvPr id="40" name=""/>
            <p:cNvGrpSpPr/>
            <p:nvPr/>
          </p:nvGrpSpPr>
          <p:grpSpPr>
            <a:xfrm>
              <a:off x="228600" y="487440"/>
              <a:ext cx="6858000" cy="8537400"/>
              <a:chOff x="228600" y="487440"/>
              <a:chExt cx="6858000" cy="853740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228600" y="487440"/>
                <a:ext cx="6858000" cy="8537400"/>
                <a:chOff x="228600" y="487440"/>
                <a:chExt cx="6858000" cy="853740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228600" y="487440"/>
                  <a:ext cx="6858000" cy="85374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914400" y="6125760"/>
                  <a:ext cx="5486400" cy="26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.S ARMY SOLDIER SUPPORT INSTITU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andout #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Rounded MT Bold"/>
                    </a:rPr>
                    <a:t>DD Form 108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4" name=""/>
              <p:cNvGraphicFramePr/>
              <p:nvPr/>
            </p:nvGraphicFramePr>
            <p:xfrm>
              <a:off x="2133360" y="2411280"/>
              <a:ext cx="3057480" cy="3195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133360" y="2411280"/>
                        <a:ext cx="3057480" cy="319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6" name=""/>
            <p:cNvSpPr/>
            <p:nvPr/>
          </p:nvSpPr>
          <p:spPr>
            <a:xfrm>
              <a:off x="1803240" y="791280"/>
              <a:ext cx="3657600" cy="8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ITED STATES ARMY FINANC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81160" y="812880"/>
          <a:ext cx="5486400" cy="803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812880"/>
                    <a:ext cx="5486400" cy="803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454560" y="896616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206360" y="812880"/>
          <a:ext cx="5486400" cy="80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812880"/>
                    <a:ext cx="548640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454560" y="896616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93760" y="812880"/>
          <a:ext cx="5486400" cy="80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812880"/>
                    <a:ext cx="548640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454560" y="896616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193760" y="812880"/>
          <a:ext cx="5486400" cy="80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812880"/>
                    <a:ext cx="548640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454560" y="896616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11360" y="863640"/>
          <a:ext cx="6349680" cy="77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863640"/>
                    <a:ext cx="6349680" cy="77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11360" y="825480"/>
          <a:ext cx="634968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825480"/>
                    <a:ext cx="634968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62120" y="838080"/>
          <a:ext cx="6248160" cy="828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6248160" cy="828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36560" y="825480"/>
          <a:ext cx="618480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25480"/>
                    <a:ext cx="618480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6560" y="825480"/>
          <a:ext cx="617220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25480"/>
                    <a:ext cx="617220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36560" y="825480"/>
          <a:ext cx="617220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25480"/>
                    <a:ext cx="617220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36560" y="825480"/>
          <a:ext cx="6172200" cy="81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825480"/>
                    <a:ext cx="6172200" cy="81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441600" y="89661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47640" y="647640"/>
          <a:ext cx="6019920" cy="72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647640"/>
                    <a:ext cx="6019920" cy="72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454560" y="8966160"/>
            <a:ext cx="40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4:59:22Z</dcterms:created>
  <dc:creator>Tamatha Perkins</dc:creator>
  <dc:description/>
  <dc:language>en-US</dc:language>
  <cp:lastModifiedBy>Administrator</cp:lastModifiedBy>
  <cp:lastPrinted>2001-04-18T20:26:31Z</cp:lastPrinted>
  <dcterms:modified xsi:type="dcterms:W3CDTF">2005-01-04T21:46:06Z</dcterms:modified>
  <cp:revision>15</cp:revision>
  <dc:subject/>
  <dc:title>Paying Agents</dc:title>
</cp:coreProperties>
</file>